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3A8E97-5D00-4983-AD82-E75CAF018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90440-F364-4646-BD2D-B4A252D78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7A1F95-F01F-464B-BE4E-3EA199891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693CD0-CAD8-4D3E-BC48-5292384E22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0D40E-6EC8-4F38-B60D-E26D255C8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9B7F6-063A-434B-B716-58146F737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97429-2469-4830-B557-6BB0BB82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8F755-6596-4DCE-B399-37D40D850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F0C4C-69F4-48BA-AD53-B2A05C7E9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721E6-7EA7-4099-B3B9-ABACE1307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565E4-2453-4426-B5FD-CC08750C8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7ED417-0C97-4395-BD64-E5ACEB32F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49377-7BF5-4FCF-BC67-477F2309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2534-0855-4BA0-80B4-0AFAC03C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BB621-38E1-4B14-90A1-4E74A141C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91D71-23D9-4EE4-8E85-9B07AE7B7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23CEA-A7B5-46E6-B01A-1E04499DB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BC9511-27E3-4DF7-859E-6762FD248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1A31AA-E099-420C-BD4A-23CBF3ADB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C2003-1563-483E-8C1A-10C6B6670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52D385-B47C-4F97-99FC-5CDAD1F99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49703-4506-43D4-8B74-C4B3F5886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F1DF0E-A7C6-4B43-9A3C-0C0AF905F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2318C5-4B77-4F9D-B8DE-8D72A5EFDC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13B6-4DC5-4DE5-8980-1E9A6BC681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8D28-FE9C-4974-926F-7118C447F1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oftware Configuration Management – 2 – Change Control Process</a:t>
            </a:r>
            <a:endParaRPr b="0" lang="en-US" sz="3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4</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B510330-C730-4EA0-9CD8-89081E7B0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Audit Questions - 1</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change specified in the ECO been made?  Have any additional modifications been incorpora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formal technical review/inspection been conducted to assess technical correctn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D5F3AA-B29A-4B1B-B2B9-DCA4FB3925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Audit Questions - 2</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software process been followed and have software engineering standards been properly appl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he change been “highlighted” in the SCI?  Have the change date and change author been specified? Do the attributes of the configuration item reflect the chan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2FCF20-B275-40A1-B6AB-6C0390ED8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Audit Questions - 3</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CM procedures for noting the change, recording it, and reporting it been follow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ll related related SCIs been properly upda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162B54-1F17-440C-ACB5-08D5384D4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Status Accounting/Reporting - 1</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us accounting function provides a corporate memory of project events that supports accomplishment of other configuration management items</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e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id it?</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it happen?</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will be affec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303291-B09C-4F28-B9DC-B318C3C522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Status Accounting/Reporting - 2</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an SCI is assigned a new or updated identification, a configuration status reporting (or CSR) entry is made</a:t>
            </a:r>
            <a:endParaRPr b="0" lang="en-US" sz="2800" spc="-1" strike="noStrike">
              <a:solidFill>
                <a:srgbClr val="000000"/>
              </a:solidFill>
              <a:latin typeface="Arial"/>
            </a:endParaRPr>
          </a:p>
          <a:p>
            <a:pPr marL="318960" indent="-318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a change is approved, a CSR entry is made</a:t>
            </a:r>
            <a:endParaRPr b="0" lang="en-US" sz="2800" spc="-1" strike="noStrike">
              <a:solidFill>
                <a:srgbClr val="000000"/>
              </a:solidFill>
              <a:latin typeface="Arial"/>
            </a:endParaRPr>
          </a:p>
          <a:p>
            <a:pPr marL="318960" indent="-318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a configuration audit is conducted, the results are reported as part of CSR task</a:t>
            </a:r>
            <a:endParaRPr b="0" lang="en-US" sz="2800" spc="-1" strike="noStrike">
              <a:solidFill>
                <a:srgbClr val="000000"/>
              </a:solidFill>
              <a:latin typeface="Arial"/>
            </a:endParaRPr>
          </a:p>
          <a:p>
            <a:pPr marL="318960" indent="-318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from CSR may be placed in an on-line database for easy access, and CSR reports are issued on a regular basis to keep management and practitioners informed about important chan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D3BB28-8FFF-44E1-8E15-CF7F58AD2B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Status Accounting/Reporting - 3</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status reporting plays a vital role in the success of a large software development pro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any people are involved, it is likely that “the left hand not knowing what the right hand is doing” syndrome will occu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developers may attempt to modify the same SCI with different and conflicting int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FDFDA7-F353-425B-9309-65D92B980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Status Accounting/Reporting - 4</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ftware engineering team may spend months of effort building software to an obsolete hardware specificatio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would recognize serious side effects for a proposed change is not aware that the change is being made</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status reporting helps to eliminate these problems by improving communication among all people involv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D7CF20-4FF1-4715-8CEA-797F47E93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hange Control Process</a:t>
            </a:r>
            <a:endParaRPr b="0" lang="en-US" sz="5000" spc="-1" strike="noStrike">
              <a:solidFill>
                <a:srgbClr val="ffffff"/>
              </a:solidFill>
              <a:latin typeface="Arial"/>
            </a:endParaRPr>
          </a:p>
        </p:txBody>
      </p:sp>
      <p:sp>
        <p:nvSpPr>
          <p:cNvPr id="13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A60E16-AD51-474D-A548-12547946F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proper safeguards, change control can retard progress and create unnecessary red tape</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relatively easy to incorporate changes before a work-product has been base-lined – the author has the authority to incorporate changes based on the organization’s policy, project management’s guidelines, and according to the technical needs of the project. We only need informal change contro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983169-144C-40E8-AD9B-D73E9BEFD1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a work-product has been base-lined after conducting a formal technical review or inspection, we need a more formal process to incorporate change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release of software, project level change control is implemented</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the software product is released to the customer, strict formal change control is institu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A45613-6AFD-4184-85B7-9698107E9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and Today’s Lectur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continue our discussion on the functions of software configuration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F8BA48-2BEE-499D-8521-7C627F39E8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changes to software work-products are reviewed, then subjected to the agreement of project participants, and finally incorporated into the currently approved software configuration</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that the separate authority, which reviews and approves all change requests be established for every project from among the project participa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785A51-5192-48ED-911C-8E0E0431FD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Control Authority/Board</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uthority is known as </a:t>
            </a:r>
            <a:r>
              <a:rPr b="0" lang="en-US" sz="3200" spc="-1" strike="noStrike">
                <a:solidFill>
                  <a:srgbClr val="9999cc"/>
                </a:solidFill>
                <a:latin typeface="Arial"/>
              </a:rPr>
              <a:t>change control authority</a:t>
            </a:r>
            <a:r>
              <a:rPr b="0" lang="en-US" sz="3200" spc="-1" strike="noStrike">
                <a:solidFill>
                  <a:srgbClr val="000000"/>
                </a:solidFill>
                <a:latin typeface="Arial"/>
              </a:rPr>
              <a:t> (or CCA) or </a:t>
            </a:r>
            <a:r>
              <a:rPr b="0" lang="en-US" sz="3200" spc="-1" strike="noStrike">
                <a:solidFill>
                  <a:srgbClr val="9999cc"/>
                </a:solidFill>
                <a:latin typeface="Arial"/>
              </a:rPr>
              <a:t>change control board</a:t>
            </a:r>
            <a:r>
              <a:rPr b="0" lang="en-US" sz="3200" spc="-1" strike="noStrike">
                <a:solidFill>
                  <a:srgbClr val="000000"/>
                </a:solidFill>
                <a:latin typeface="Arial"/>
              </a:rPr>
              <a:t> (or CCB)</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use these two terms interchangeably during this cour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D2986-3124-4A18-A3C7-C8961E78FF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CA/CCB plays an active role in the project level change control and formal change control activiti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a CCA consists of representatives from software, hardware, database engineering, support, and marketing, etc., depending on the size and nature of the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ED901A-5344-401A-950A-90EA9D017B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change request, the change control authority/board assesses th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echnical meri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Potential side effec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Overall impact on other configuration items and system func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Projected cost of the chan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109525-C61F-4F0B-8BEC-E8A9FCBBF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change control authority/board may assess the impact of change beyond the SCI in ques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How will the change affect hardwar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How will the change affect performanc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How will the change modify customer’s perception of the produc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How will the change affect product quality and reliabilit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CF9DD4-0900-4C12-B5BF-8755707FB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CA/CCB has the authority to approve or reject a change reque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elay the request for consideration and inclusion in the next iteration als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6AA81-FABA-458A-AD16-CBD370AA3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approved change request, an engineering change order (or ECO) is generated, which describ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e change to be mad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e constraints that must be respect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The criteria of review and audi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20F214-FBD2-4654-9623-4D0D6C568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time, we have to implement the approved chan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e need to “check-out” the configuration item that has to be changed from the project datab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have access and authorization to make modifications to that specific SCI</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24045F-F4E9-4542-AF6A-BB25E7F29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e approved change are made and necessary SQA and testing activities are appl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SCI is then “checked-in” to the project data b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s are now part of the new version of the base-lined work-produ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3211D4-8CCF-41BF-A3A3-E175D1C44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Control Process - 1</a:t>
            </a:r>
            <a:endParaRPr b="0" lang="en-US" sz="4400" spc="-1" strike="noStrike">
              <a:solidFill>
                <a:srgbClr val="000000"/>
              </a:solidFill>
              <a:latin typeface="Arial"/>
            </a:endParaRPr>
          </a:p>
        </p:txBody>
      </p:sp>
      <p:sp>
        <p:nvSpPr>
          <p:cNvPr id="163" name=""/>
          <p:cNvSpPr/>
          <p:nvPr/>
        </p:nvSpPr>
        <p:spPr>
          <a:xfrm>
            <a:off x="4419720" y="2174760"/>
            <a:ext cx="1260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9720" y="2717640"/>
            <a:ext cx="12600" cy="344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19720" y="32590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19720" y="38005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51040" y="2316240"/>
            <a:ext cx="3494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quest from user</a:t>
            </a:r>
            <a:endParaRPr b="0" lang="en-US" sz="2400" spc="-1" strike="noStrike">
              <a:solidFill>
                <a:srgbClr val="000000"/>
              </a:solidFill>
              <a:latin typeface="Times New Roman"/>
            </a:endParaRPr>
          </a:p>
        </p:txBody>
      </p:sp>
      <p:sp>
        <p:nvSpPr>
          <p:cNvPr id="168" name=""/>
          <p:cNvSpPr/>
          <p:nvPr/>
        </p:nvSpPr>
        <p:spPr>
          <a:xfrm>
            <a:off x="2993040" y="2881440"/>
            <a:ext cx="273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er evaluates</a:t>
            </a:r>
            <a:endParaRPr b="0" lang="en-US" sz="2400" spc="-1" strike="noStrike">
              <a:solidFill>
                <a:srgbClr val="000000"/>
              </a:solidFill>
              <a:latin typeface="Times New Roman"/>
            </a:endParaRPr>
          </a:p>
        </p:txBody>
      </p:sp>
      <p:sp>
        <p:nvSpPr>
          <p:cNvPr id="169" name=""/>
          <p:cNvSpPr/>
          <p:nvPr/>
        </p:nvSpPr>
        <p:spPr>
          <a:xfrm>
            <a:off x="2624760" y="3411360"/>
            <a:ext cx="364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port is generated</a:t>
            </a:r>
            <a:endParaRPr b="0" lang="en-US" sz="2400" spc="-1" strike="noStrike">
              <a:solidFill>
                <a:srgbClr val="000000"/>
              </a:solidFill>
              <a:latin typeface="Times New Roman"/>
            </a:endParaRPr>
          </a:p>
        </p:txBody>
      </p:sp>
      <p:sp>
        <p:nvSpPr>
          <p:cNvPr id="170" name=""/>
          <p:cNvSpPr/>
          <p:nvPr/>
        </p:nvSpPr>
        <p:spPr>
          <a:xfrm>
            <a:off x="2309760" y="3930480"/>
            <a:ext cx="4548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control authority decides</a:t>
            </a:r>
            <a:endParaRPr b="0" lang="en-US" sz="2400" spc="-1" strike="noStrike">
              <a:solidFill>
                <a:srgbClr val="000000"/>
              </a:solidFill>
              <a:latin typeface="Times New Roman"/>
            </a:endParaRPr>
          </a:p>
        </p:txBody>
      </p:sp>
      <p:sp>
        <p:nvSpPr>
          <p:cNvPr id="171" name=""/>
          <p:cNvSpPr/>
          <p:nvPr/>
        </p:nvSpPr>
        <p:spPr>
          <a:xfrm>
            <a:off x="1380600" y="4597560"/>
            <a:ext cx="379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is queued for action</a:t>
            </a:r>
            <a:endParaRPr b="0" lang="en-US" sz="2400" spc="-1" strike="noStrike">
              <a:solidFill>
                <a:srgbClr val="000000"/>
              </a:solidFill>
              <a:latin typeface="Times New Roman"/>
            </a:endParaRPr>
          </a:p>
        </p:txBody>
      </p:sp>
      <p:sp>
        <p:nvSpPr>
          <p:cNvPr id="172" name=""/>
          <p:cNvSpPr/>
          <p:nvPr/>
        </p:nvSpPr>
        <p:spPr>
          <a:xfrm>
            <a:off x="4175280" y="4913280"/>
            <a:ext cx="3359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request is denied</a:t>
            </a:r>
            <a:endParaRPr b="0" lang="en-US" sz="2400" spc="-1" strike="noStrike">
              <a:solidFill>
                <a:srgbClr val="000000"/>
              </a:solidFill>
              <a:latin typeface="Times New Roman"/>
            </a:endParaRPr>
          </a:p>
        </p:txBody>
      </p:sp>
      <p:sp>
        <p:nvSpPr>
          <p:cNvPr id="173" name=""/>
          <p:cNvSpPr/>
          <p:nvPr/>
        </p:nvSpPr>
        <p:spPr>
          <a:xfrm>
            <a:off x="5457240" y="5207040"/>
            <a:ext cx="2301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is informed</a:t>
            </a:r>
            <a:endParaRPr b="0" lang="en-US" sz="2400" spc="-1" strike="noStrike">
              <a:solidFill>
                <a:srgbClr val="000000"/>
              </a:solidFill>
              <a:latin typeface="Times New Roman"/>
            </a:endParaRPr>
          </a:p>
        </p:txBody>
      </p:sp>
      <p:sp>
        <p:nvSpPr>
          <p:cNvPr id="174" name=""/>
          <p:cNvSpPr/>
          <p:nvPr/>
        </p:nvSpPr>
        <p:spPr>
          <a:xfrm>
            <a:off x="2192760" y="175248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ed for change is recognized</a:t>
            </a:r>
            <a:endParaRPr b="0" lang="en-US" sz="2400" spc="-1" strike="noStrike">
              <a:solidFill>
                <a:srgbClr val="000000"/>
              </a:solidFill>
              <a:latin typeface="Times New Roman"/>
            </a:endParaRPr>
          </a:p>
        </p:txBody>
      </p:sp>
      <p:sp>
        <p:nvSpPr>
          <p:cNvPr id="175" name=""/>
          <p:cNvSpPr/>
          <p:nvPr/>
        </p:nvSpPr>
        <p:spPr>
          <a:xfrm>
            <a:off x="1217160" y="5448240"/>
            <a:ext cx="3788640" cy="454680"/>
          </a:xfrm>
          <a:prstGeom prst="rect">
            <a:avLst/>
          </a:prstGeom>
          <a:solidFill>
            <a:srgbClr val="00007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 Control Process—2</a:t>
            </a:r>
            <a:endParaRPr b="0" lang="en-US" sz="2400" spc="-1" strike="noStrike">
              <a:solidFill>
                <a:srgbClr val="000000"/>
              </a:solidFill>
              <a:latin typeface="Times New Roman"/>
            </a:endParaRPr>
          </a:p>
        </p:txBody>
      </p:sp>
      <p:sp>
        <p:nvSpPr>
          <p:cNvPr id="176" name=""/>
          <p:cNvSpPr/>
          <p:nvPr/>
        </p:nvSpPr>
        <p:spPr>
          <a:xfrm flipH="1">
            <a:off x="3161880" y="4343400"/>
            <a:ext cx="507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613480" y="4376880"/>
            <a:ext cx="406440" cy="558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25960" y="5030640"/>
            <a:ext cx="0" cy="322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19720" y="151920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19720" y="20620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19720" y="26035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5361DB-4270-4715-A065-7B05417BD3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contr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udi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ccounting/repor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BC666A-9F15-4513-8E73-C37D74AC63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Control Process - 2</a:t>
            </a:r>
            <a:endParaRPr b="0" lang="en-US" sz="4400" spc="-1" strike="noStrike">
              <a:solidFill>
                <a:srgbClr val="000000"/>
              </a:solidFill>
              <a:latin typeface="Arial"/>
            </a:endParaRPr>
          </a:p>
        </p:txBody>
      </p:sp>
      <p:sp>
        <p:nvSpPr>
          <p:cNvPr id="183" name=""/>
          <p:cNvSpPr/>
          <p:nvPr/>
        </p:nvSpPr>
        <p:spPr>
          <a:xfrm>
            <a:off x="4314960" y="1714680"/>
            <a:ext cx="12600" cy="342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4960" y="245736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314960" y="299880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14960" y="3541680"/>
            <a:ext cx="12600" cy="343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87760" y="2055960"/>
            <a:ext cx="293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ign people to SCIs</a:t>
            </a:r>
            <a:endParaRPr b="0" lang="en-US" sz="2400" spc="-1" strike="noStrike">
              <a:solidFill>
                <a:srgbClr val="000000"/>
              </a:solidFill>
              <a:latin typeface="Times New Roman"/>
            </a:endParaRPr>
          </a:p>
        </p:txBody>
      </p:sp>
      <p:sp>
        <p:nvSpPr>
          <p:cNvPr id="188" name=""/>
          <p:cNvSpPr/>
          <p:nvPr/>
        </p:nvSpPr>
        <p:spPr>
          <a:xfrm>
            <a:off x="3145320" y="2620800"/>
            <a:ext cx="215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out SCIs</a:t>
            </a:r>
            <a:endParaRPr b="0" lang="en-US" sz="2400" spc="-1" strike="noStrike">
              <a:solidFill>
                <a:srgbClr val="000000"/>
              </a:solidFill>
              <a:latin typeface="Times New Roman"/>
            </a:endParaRPr>
          </a:p>
        </p:txBody>
      </p:sp>
      <p:sp>
        <p:nvSpPr>
          <p:cNvPr id="189" name=""/>
          <p:cNvSpPr/>
          <p:nvPr/>
        </p:nvSpPr>
        <p:spPr>
          <a:xfrm>
            <a:off x="3093480" y="3173400"/>
            <a:ext cx="2367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the change</a:t>
            </a:r>
            <a:endParaRPr b="0" lang="en-US" sz="2400" spc="-1" strike="noStrike">
              <a:solidFill>
                <a:srgbClr val="000000"/>
              </a:solidFill>
              <a:latin typeface="Times New Roman"/>
            </a:endParaRPr>
          </a:p>
        </p:txBody>
      </p:sp>
      <p:sp>
        <p:nvSpPr>
          <p:cNvPr id="190" name=""/>
          <p:cNvSpPr/>
          <p:nvPr/>
        </p:nvSpPr>
        <p:spPr>
          <a:xfrm>
            <a:off x="2698200" y="3830760"/>
            <a:ext cx="328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udit the change</a:t>
            </a:r>
            <a:endParaRPr b="0" lang="en-US" sz="2400" spc="-1" strike="noStrike">
              <a:solidFill>
                <a:srgbClr val="000000"/>
              </a:solidFill>
              <a:latin typeface="Times New Roman"/>
            </a:endParaRPr>
          </a:p>
        </p:txBody>
      </p:sp>
      <p:sp>
        <p:nvSpPr>
          <p:cNvPr id="191" name=""/>
          <p:cNvSpPr/>
          <p:nvPr/>
        </p:nvSpPr>
        <p:spPr>
          <a:xfrm>
            <a:off x="2125080" y="4535640"/>
            <a:ext cx="4387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baseline” for testing</a:t>
            </a:r>
            <a:endParaRPr b="0" lang="en-US" sz="2400" spc="-1" strike="noStrike">
              <a:solidFill>
                <a:srgbClr val="000000"/>
              </a:solidFill>
              <a:latin typeface="Times New Roman"/>
            </a:endParaRPr>
          </a:p>
        </p:txBody>
      </p:sp>
      <p:sp>
        <p:nvSpPr>
          <p:cNvPr id="192" name=""/>
          <p:cNvSpPr/>
          <p:nvPr/>
        </p:nvSpPr>
        <p:spPr>
          <a:xfrm>
            <a:off x="2331720" y="5337000"/>
            <a:ext cx="3788640" cy="454680"/>
          </a:xfrm>
          <a:prstGeom prst="rect">
            <a:avLst/>
          </a:prstGeom>
          <a:solidFill>
            <a:srgbClr val="00007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 Control Process—3</a:t>
            </a:r>
            <a:endParaRPr b="0" lang="en-US" sz="2400" spc="-1" strike="noStrike">
              <a:solidFill>
                <a:srgbClr val="000000"/>
              </a:solidFill>
              <a:latin typeface="Times New Roman"/>
            </a:endParaRPr>
          </a:p>
        </p:txBody>
      </p:sp>
      <p:sp>
        <p:nvSpPr>
          <p:cNvPr id="193" name=""/>
          <p:cNvSpPr/>
          <p:nvPr/>
        </p:nvSpPr>
        <p:spPr>
          <a:xfrm>
            <a:off x="4314960" y="4202280"/>
            <a:ext cx="12600" cy="344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02000" y="4933800"/>
            <a:ext cx="0" cy="322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68E9ED-47C6-466F-A06F-70FF08A34C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Control Process - 3</a:t>
            </a:r>
            <a:endParaRPr b="0" lang="en-US" sz="4400" spc="-1" strike="noStrike">
              <a:solidFill>
                <a:srgbClr val="000000"/>
              </a:solidFill>
              <a:latin typeface="Arial"/>
            </a:endParaRPr>
          </a:p>
        </p:txBody>
      </p:sp>
      <p:sp>
        <p:nvSpPr>
          <p:cNvPr id="196" name=""/>
          <p:cNvSpPr/>
          <p:nvPr/>
        </p:nvSpPr>
        <p:spPr>
          <a:xfrm>
            <a:off x="4343400" y="224316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56000" y="2895480"/>
            <a:ext cx="12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56000" y="3549600"/>
            <a:ext cx="1296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368960" y="422748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64240" y="1838160"/>
            <a:ext cx="4709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 SQA and testing activities</a:t>
            </a:r>
            <a:endParaRPr b="0" lang="en-US" sz="2400" spc="-1" strike="noStrike">
              <a:solidFill>
                <a:srgbClr val="000000"/>
              </a:solidFill>
              <a:latin typeface="Times New Roman"/>
            </a:endParaRPr>
          </a:p>
        </p:txBody>
      </p:sp>
      <p:sp>
        <p:nvSpPr>
          <p:cNvPr id="201" name=""/>
          <p:cNvSpPr/>
          <p:nvPr/>
        </p:nvSpPr>
        <p:spPr>
          <a:xfrm>
            <a:off x="1581840" y="3149640"/>
            <a:ext cx="552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mote SCI for inclusion in next release</a:t>
            </a:r>
            <a:endParaRPr b="0" lang="en-US" sz="2400" spc="-1" strike="noStrike">
              <a:solidFill>
                <a:srgbClr val="000000"/>
              </a:solidFill>
              <a:latin typeface="Times New Roman"/>
            </a:endParaRPr>
          </a:p>
        </p:txBody>
      </p:sp>
      <p:sp>
        <p:nvSpPr>
          <p:cNvPr id="202" name=""/>
          <p:cNvSpPr/>
          <p:nvPr/>
        </p:nvSpPr>
        <p:spPr>
          <a:xfrm>
            <a:off x="2510280" y="3803760"/>
            <a:ext cx="379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build appropriate version</a:t>
            </a:r>
            <a:endParaRPr b="0" lang="en-US" sz="2400" spc="-1" strike="noStrike">
              <a:solidFill>
                <a:srgbClr val="000000"/>
              </a:solidFill>
              <a:latin typeface="Times New Roman"/>
            </a:endParaRPr>
          </a:p>
        </p:txBody>
      </p:sp>
      <p:sp>
        <p:nvSpPr>
          <p:cNvPr id="203" name=""/>
          <p:cNvSpPr/>
          <p:nvPr/>
        </p:nvSpPr>
        <p:spPr>
          <a:xfrm>
            <a:off x="2752200" y="4549680"/>
            <a:ext cx="328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udit the change</a:t>
            </a:r>
            <a:endParaRPr b="0" lang="en-US" sz="2400" spc="-1" strike="noStrike">
              <a:solidFill>
                <a:srgbClr val="000000"/>
              </a:solidFill>
              <a:latin typeface="Times New Roman"/>
            </a:endParaRPr>
          </a:p>
        </p:txBody>
      </p:sp>
      <p:sp>
        <p:nvSpPr>
          <p:cNvPr id="204" name=""/>
          <p:cNvSpPr/>
          <p:nvPr/>
        </p:nvSpPr>
        <p:spPr>
          <a:xfrm>
            <a:off x="2394360" y="5261040"/>
            <a:ext cx="394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all changes in release</a:t>
            </a:r>
            <a:endParaRPr b="0" lang="en-US" sz="2400" spc="-1" strike="noStrike">
              <a:solidFill>
                <a:srgbClr val="000000"/>
              </a:solidFill>
              <a:latin typeface="Times New Roman"/>
            </a:endParaRPr>
          </a:p>
        </p:txBody>
      </p:sp>
      <p:sp>
        <p:nvSpPr>
          <p:cNvPr id="205" name=""/>
          <p:cNvSpPr/>
          <p:nvPr/>
        </p:nvSpPr>
        <p:spPr>
          <a:xfrm>
            <a:off x="4368960" y="49831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0520" y="2511360"/>
            <a:ext cx="3628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 the changed SCIs</a:t>
            </a:r>
            <a:endParaRPr b="0" lang="en-US" sz="2400" spc="-1" strike="noStrike">
              <a:solidFill>
                <a:srgbClr val="000000"/>
              </a:solidFill>
              <a:latin typeface="Times New Roman"/>
            </a:endParaRPr>
          </a:p>
        </p:txBody>
      </p:sp>
      <p:sp>
        <p:nvSpPr>
          <p:cNvPr id="207" name=""/>
          <p:cNvSpPr/>
          <p:nvPr/>
        </p:nvSpPr>
        <p:spPr>
          <a:xfrm>
            <a:off x="4343400" y="1608120"/>
            <a:ext cx="12600" cy="344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50EE29-28D4-4EF7-BA2B-5F21B668AE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can notice, that formal change control process is very elaborate and comprehensiv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ck-in” and “check-out” activities implement two important elements of change control – </a:t>
            </a:r>
            <a:r>
              <a:rPr b="0" lang="en-US" sz="3200" spc="-1" strike="noStrike">
                <a:solidFill>
                  <a:srgbClr val="9999cc"/>
                </a:solidFill>
                <a:latin typeface="Arial"/>
              </a:rPr>
              <a:t>access control</a:t>
            </a:r>
            <a:r>
              <a:rPr b="0" lang="en-US" sz="3200" spc="-1" strike="noStrike">
                <a:solidFill>
                  <a:srgbClr val="000000"/>
                </a:solidFill>
                <a:latin typeface="Arial"/>
              </a:rPr>
              <a:t> and </a:t>
            </a:r>
            <a:r>
              <a:rPr b="0" lang="en-US" sz="3200" spc="-1" strike="noStrike">
                <a:solidFill>
                  <a:srgbClr val="9999cc"/>
                </a:solidFill>
                <a:latin typeface="Arial"/>
              </a:rPr>
              <a:t>synchronization contro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984B5B-E80F-4036-9BFE-88FC107DF1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and Synchronization Control</a:t>
            </a:r>
            <a:endParaRPr b="0" lang="en-US" sz="40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Access control</a:t>
            </a:r>
            <a:r>
              <a:rPr b="0" lang="en-US" sz="3200" spc="-1" strike="noStrike">
                <a:solidFill>
                  <a:srgbClr val="000000"/>
                </a:solidFill>
                <a:latin typeface="Arial"/>
              </a:rPr>
              <a:t> governs which software engineers have the authority to access and modify a particular configuration item</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Synchronization control</a:t>
            </a:r>
            <a:r>
              <a:rPr b="0" lang="en-US" sz="3200" spc="-1" strike="noStrike">
                <a:solidFill>
                  <a:srgbClr val="000000"/>
                </a:solidFill>
                <a:latin typeface="Arial"/>
              </a:rPr>
              <a:t> helps to ensure that parallel changes, performed by two different people, don’t overwrite one anoth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implement both</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03AC7-4079-420B-96E2-97C34C9FF3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and Synchronization Control</a:t>
            </a:r>
            <a:endParaRPr b="0" lang="en-US" sz="4000" spc="-1" strike="noStrike">
              <a:solidFill>
                <a:srgbClr val="000000"/>
              </a:solidFill>
              <a:latin typeface="Arial"/>
            </a:endParaRPr>
          </a:p>
        </p:txBody>
      </p:sp>
      <p:pic>
        <p:nvPicPr>
          <p:cNvPr id="213" name="" descr=""/>
          <p:cNvPicPr/>
          <p:nvPr/>
        </p:nvPicPr>
        <p:blipFill>
          <a:blip r:embed="rId1"/>
          <a:stretch/>
        </p:blipFill>
        <p:spPr>
          <a:xfrm>
            <a:off x="1143000" y="1828800"/>
            <a:ext cx="6858000" cy="4543560"/>
          </a:xfrm>
          <a:prstGeom prst="rect">
            <a:avLst/>
          </a:prstGeom>
          <a:ln w="0">
            <a:noFill/>
          </a:ln>
        </p:spPr>
      </p:pic>
      <p:sp>
        <p:nvSpPr>
          <p:cNvPr id="3" name="PlaceHolder 2"/>
          <p:cNvSpPr>
            <a:spLocks noGrp="1"/>
          </p:cNvSpPr>
          <p:nvPr>
            <p:ph type="sldNum" idx="2"/>
          </p:nvPr>
        </p:nvSpPr>
        <p:spPr/>
        <p:txBody>
          <a:bodyPr/>
          <a:p>
            <a:fld id="{CF83CDD7-654B-49C0-BF78-D1FE5FEEB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Configuration Management Overview</a:t>
            </a:r>
            <a:endParaRPr b="0" lang="en-US" sz="4000" spc="-1" strike="noStrike">
              <a:solidFill>
                <a:srgbClr val="000000"/>
              </a:solidFill>
              <a:latin typeface="Arial"/>
            </a:endParaRPr>
          </a:p>
        </p:txBody>
      </p:sp>
      <p:sp>
        <p:nvSpPr>
          <p:cNvPr id="215" name=""/>
          <p:cNvSpPr/>
          <p:nvPr/>
        </p:nvSpPr>
        <p:spPr>
          <a:xfrm>
            <a:off x="457200" y="1447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43200" y="1447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2590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743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315200" y="3733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315200" y="259092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95480" y="4952880"/>
            <a:ext cx="1295640" cy="16765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95480" y="58672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1980720" y="1752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1932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21932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67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530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077320" y="327672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05320" y="21337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1980720" y="2895480"/>
            <a:ext cx="533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9320" y="44197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19320" y="556272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91120" y="5562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91320" y="441972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07732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190760" y="617220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49680" y="1461960"/>
            <a:ext cx="152352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Use</a:t>
            </a:r>
            <a:endParaRPr b="0" lang="en-US" sz="1800" spc="-1" strike="noStrike">
              <a:solidFill>
                <a:srgbClr val="000000"/>
              </a:solidFill>
              <a:latin typeface="Times New Roman"/>
            </a:endParaRPr>
          </a:p>
        </p:txBody>
      </p:sp>
      <p:sp>
        <p:nvSpPr>
          <p:cNvPr id="241" name=""/>
          <p:cNvSpPr/>
          <p:nvPr/>
        </p:nvSpPr>
        <p:spPr>
          <a:xfrm>
            <a:off x="489240" y="1471680"/>
            <a:ext cx="14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a:t>
            </a:r>
            <a:endParaRPr b="0" lang="en-US" sz="1800" spc="-1" strike="noStrike">
              <a:solidFill>
                <a:srgbClr val="000000"/>
              </a:solidFill>
              <a:latin typeface="Times New Roman"/>
            </a:endParaRPr>
          </a:p>
        </p:txBody>
      </p:sp>
      <p:sp>
        <p:nvSpPr>
          <p:cNvPr id="242" name=""/>
          <p:cNvSpPr/>
          <p:nvPr/>
        </p:nvSpPr>
        <p:spPr>
          <a:xfrm>
            <a:off x="380880" y="2604960"/>
            <a:ext cx="16894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Baseline</a:t>
            </a:r>
            <a:endParaRPr b="0" lang="en-US" sz="1800" spc="-1" strike="noStrike">
              <a:solidFill>
                <a:srgbClr val="000000"/>
              </a:solidFill>
              <a:latin typeface="Times New Roman"/>
            </a:endParaRPr>
          </a:p>
        </p:txBody>
      </p:sp>
      <p:sp>
        <p:nvSpPr>
          <p:cNvPr id="243" name=""/>
          <p:cNvSpPr/>
          <p:nvPr/>
        </p:nvSpPr>
        <p:spPr>
          <a:xfrm>
            <a:off x="705600" y="373392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a:t>
            </a:r>
            <a:endParaRPr b="0" lang="en-US" sz="1800" spc="-1" strike="noStrike">
              <a:solidFill>
                <a:srgbClr val="000000"/>
              </a:solidFill>
              <a:latin typeface="Times New Roman"/>
            </a:endParaRPr>
          </a:p>
        </p:txBody>
      </p:sp>
      <p:sp>
        <p:nvSpPr>
          <p:cNvPr id="244" name=""/>
          <p:cNvSpPr/>
          <p:nvPr/>
        </p:nvSpPr>
        <p:spPr>
          <a:xfrm>
            <a:off x="2940840" y="3733920"/>
            <a:ext cx="109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245" name=""/>
          <p:cNvSpPr/>
          <p:nvPr/>
        </p:nvSpPr>
        <p:spPr>
          <a:xfrm>
            <a:off x="5181840" y="3733920"/>
            <a:ext cx="1174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246" name=""/>
          <p:cNvSpPr/>
          <p:nvPr/>
        </p:nvSpPr>
        <p:spPr>
          <a:xfrm>
            <a:off x="7620480" y="3733920"/>
            <a:ext cx="95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247" name=""/>
          <p:cNvSpPr/>
          <p:nvPr/>
        </p:nvSpPr>
        <p:spPr>
          <a:xfrm>
            <a:off x="7621560" y="259092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a:t>
            </a:r>
            <a:endParaRPr b="0" lang="en-US" sz="1800" spc="-1" strike="noStrike">
              <a:solidFill>
                <a:srgbClr val="000000"/>
              </a:solidFill>
              <a:latin typeface="Times New Roman"/>
            </a:endParaRPr>
          </a:p>
        </p:txBody>
      </p:sp>
      <p:sp>
        <p:nvSpPr>
          <p:cNvPr id="248" name=""/>
          <p:cNvSpPr/>
          <p:nvPr/>
        </p:nvSpPr>
        <p:spPr>
          <a:xfrm>
            <a:off x="2979000" y="542448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lines</a:t>
            </a:r>
            <a:endParaRPr b="0" lang="en-US" sz="1800" spc="-1" strike="noStrike">
              <a:solidFill>
                <a:srgbClr val="000000"/>
              </a:solidFill>
              <a:latin typeface="Times New Roman"/>
            </a:endParaRPr>
          </a:p>
        </p:txBody>
      </p:sp>
      <p:sp>
        <p:nvSpPr>
          <p:cNvPr id="249" name=""/>
          <p:cNvSpPr/>
          <p:nvPr/>
        </p:nvSpPr>
        <p:spPr>
          <a:xfrm>
            <a:off x="3017520" y="603396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46B30BA-B48A-499E-A455-3CC5E6A2C7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Standards</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STD-483</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D-STD-480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STD-1521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I/IEEE Std. No. 828-1983</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I/IEEE Std. No. 1042-1987</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I/IEEE Std. No. 1028-198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A51D1C-571F-4715-93DD-801F3860F7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configuration management is an umbrella activity that is applied throughout the software pro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identifies, controls, audits, and reports modifications that invariably occur while software is being developed and after it has been releas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saves a project from total cha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A4F56-D7F0-4DD7-A227-EDADEDF690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 A Practitioner’s Approach by Roger S. Pressman (Chapter 9.3 – 9.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andbook of Software Quality Assurance edited by G. Gordon Schulmeyer and James L. McManus, PH, 1999, (Chapter 10.1-10.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Software Process by Watts S. Humphrey, AW, 1989, page 177 (figure 7.2 SCM Overvi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A7628E-63EA-42D4-849D-F416C041085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 Identification</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trol and manage software configuration items, each item must be separately named or numbere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fication scheme is documented in the software configuration management pl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identification of each SCI helps in organization and retrieval of configuration ite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0E3653-6A5C-4A54-AC65-8F2E64535A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Version Control - 1</a:t>
            </a: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control combines procedures and tools to manage different versions of configuration items that are created during the softwar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ming scheme for SCIs should incorporate the version numb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29DE8-6D62-4D9A-9061-F1F43CFFF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Version Control - 2</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allows a user to specify alternative configurations of the software system through the selection of appropriate vers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upported by associating attributes with each software version, and then allowing a configuration to be specified [and constructed] by describing the set of attribu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E76C15-D280-4D9F-AE6D-85A4377D8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 Change Control</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trol is vital. Too much change control and we create problems.  Too little, and we create other problems</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 projects, uncontrolled change rapidly leads to chaos</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edium to large projects, change control combines human procedures and automated tools to provide a mechanism for the control of change</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alk about change control process after few minute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9C42BD-CB9A-417A-8738-5D62E3353E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Configuration Audit</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ensure that the approved changes have been implemented?</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Formal technical reviews/inspections</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Software configuration audit</a:t>
            </a:r>
            <a:endParaRPr b="0" lang="en-US" sz="2800" spc="-1" strike="noStrike">
              <a:solidFill>
                <a:srgbClr val="000000"/>
              </a:solidFill>
              <a:latin typeface="Arial"/>
            </a:endParaRPr>
          </a:p>
          <a:p>
            <a:pPr lvl="2" marL="1097280" indent="-219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configuration audit complements the formal technical reviews/inspections by assessing a configuration item for characteristics that are generally not considered during review</a:t>
            </a:r>
            <a:endParaRPr b="0" lang="en-US" sz="2400" spc="-1" strike="noStrike">
              <a:solidFill>
                <a:srgbClr val="000000"/>
              </a:solidFill>
              <a:latin typeface="Arial"/>
            </a:endParaRPr>
          </a:p>
          <a:p>
            <a:pPr lvl="2" marL="1097280" indent="-219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M audit is conducted by the quality assurance grou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1A34D7-DE11-4D18-9463-9A6A77C799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CM Function: Configuration Audit Questions</a:t>
            </a:r>
            <a:endParaRPr b="0" lang="en-US" sz="5000" spc="-1" strike="noStrike">
              <a:solidFill>
                <a:srgbClr val="ffffff"/>
              </a:solidFill>
              <a:latin typeface="Arial"/>
            </a:endParaRPr>
          </a:p>
        </p:txBody>
      </p:sp>
      <p:sp>
        <p:nvSpPr>
          <p:cNvPr id="12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M asks and answers the following six questions</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050758-D261-42F4-805E-AC94DFB1A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5:58:02Z</dcterms:created>
  <dc:creator>Ghulam Ahmad Farrukh</dc:creator>
  <dc:description/>
  <dc:language>en-US</dc:language>
  <cp:lastModifiedBy>ahmadmohsin</cp:lastModifiedBy>
  <dcterms:modified xsi:type="dcterms:W3CDTF">2009-06-22T05:10:55Z</dcterms:modified>
  <cp:revision>180</cp:revision>
  <dc:subject/>
  <dc:title>SCM and Quality Assurance</dc:title>
</cp:coreProperties>
</file>